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A5150-9345-4919-8363-D17A78AA7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33C3B-85C2-48CF-8149-9FC01E3BA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FAA3E-4420-4458-B999-8C2847A45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E17F4-664F-4B11-B5F7-A5369AC07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BA86A3-630E-41B2-B278-FE01CC1095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5F82F-0331-4AB6-8B29-96F541930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7FAC0-DAA9-428B-B204-7E9CDF14A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79D02-BCAE-42AD-8AA8-DB2FFAE534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C7C2C-3C23-4B92-9C99-C3BB5085B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DB4B50-88A2-4A08-ADC6-853A12C2E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BF1D6-9D8A-41CA-8997-D6D8C9DBD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BFDD4-579F-465B-807A-959EFEC3A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4F892-07EF-423B-B83E-8D0F6DE58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8CEB2-5A61-4161-8A57-97FE6023A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9B8BE-E53F-4683-91FF-BA404DB59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635F04-DE1A-4133-A63D-5059AC4332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40105D-21B0-440A-AAD3-AFBFFA2C28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FEC90-1A0B-44EC-BF26-7E092B0DA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1259A-6163-4719-861B-A3A09FD44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C4653-ABB0-47ED-AF51-0EF7147C1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CFD03-9274-4AC9-8A13-C84C09741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9CA14-19A8-43B4-A64F-2D99CAE86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681BE-0EC8-44A2-A95E-15C985EAF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95293-AD0D-4746-B9BA-ECD3EEB0A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7A4AB-5DAF-4121-A5C3-71B645A1231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C0A21-4276-4B48-ADD0-AFEB176A1BD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UTOCLAVE</a:t>
            </a:r>
            <a:endParaRPr b="0" lang="en-US" sz="4400" spc="-1" strike="noStrike">
              <a:solidFill>
                <a:srgbClr val="333399"/>
              </a:solidFill>
              <a:latin typeface="Tahoma"/>
            </a:endParaRPr>
          </a:p>
        </p:txBody>
      </p:sp>
      <p:sp>
        <p:nvSpPr>
          <p:cNvPr id="100" name="PlaceHolder 2"/>
          <p:cNvSpPr>
            <a:spLocks noGrp="1"/>
          </p:cNvSpPr>
          <p:nvPr>
            <p:ph type="subTitle"/>
          </p:nvPr>
        </p:nvSpPr>
        <p:spPr>
          <a:xfrm>
            <a:off x="914400" y="3352320"/>
            <a:ext cx="6400800" cy="17528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AINTENANCE AND VALIDATION.</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LIDATION TEAM:</a:t>
            </a:r>
            <a:endParaRPr b="0" lang="en-US" sz="1800" spc="-1" strike="noStrike">
              <a:solidFill>
                <a:srgbClr val="000000"/>
              </a:solidFill>
              <a:latin typeface="Tahoma"/>
            </a:endParaRPr>
          </a:p>
        </p:txBody>
      </p:sp>
      <p:pic>
        <p:nvPicPr>
          <p:cNvPr id="126" name="" descr=""/>
          <p:cNvPicPr/>
          <p:nvPr/>
        </p:nvPicPr>
        <p:blipFill>
          <a:blip r:embed="rId1"/>
          <a:stretch/>
        </p:blipFill>
        <p:spPr>
          <a:xfrm>
            <a:off x="1447920" y="2514600"/>
            <a:ext cx="6324480" cy="3514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allation Qualification:</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m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criptio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del and identification no.</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locatio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tility requirement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nections and safety features of the systems/equipment which need to be documente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7000"/>
          </a:bodyPr>
          <a:p>
            <a:pPr marL="298440" indent="-2984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ERATIONAL QUALIFICATION PROTOCOL (OQ)</a:t>
            </a:r>
            <a:endParaRPr b="0" lang="en-US" sz="16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 PURPOSE :</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o demonstrate and document that the operations</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f the Autoclave take place as specified .</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 SCOPE :</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utoclave xxxxx will be qualified to meet OQ.</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0 RESPONSIBILITY :</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icrobiologist, Manager Q.C</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0 PROCEDURE :</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should be performed by external agency like IIME.</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1 Verify the following as per instrument operating procedure and calibration certificate kept in place before validation.</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1.1 : Temperature display of Autoclave.</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1.2 : Compound pressure gauge of Autoclave.</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cceptance criteria :</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ll calibration data found to be within the acceptable norms of calibration certificate.</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2 Calibration of Thermocouples :</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librate all the thermocouples of data logger before and after the validation using standard thermometer and also made available party’s calibration certificates.</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cceptance criteria:</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variation between the temperature of thermocouples and the standard thermometer found to be within the acceptance criteria.</a:t>
            </a:r>
            <a:endParaRPr b="0" lang="en-US" sz="1400" spc="-1" strike="noStrike">
              <a:solidFill>
                <a:srgbClr val="000000"/>
              </a:solidFill>
              <a:latin typeface="Tahoma"/>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3 Heat Distribution Studies</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rry out heat distribution studies by using a multi-point data logger and maintain holding time for 15 minutes at 15 lbs. by fixing all the 12 probes as per diagram-1. Record the temperature and lag time of each probe as per Annexure –1 &amp; 2.</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ceptance criteria</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probes must reach temperature 121-124°C and pressure must be within 15 to 18 lbs for 15min cycle.</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agram-1 Probe to 12 inside the chamber</a:t>
            </a:r>
            <a:endParaRPr b="0" lang="en-US" sz="1600" spc="-1" strike="noStrike">
              <a:solidFill>
                <a:srgbClr val="000000"/>
              </a:solidFill>
              <a:latin typeface="Tahoma"/>
            </a:endParaRPr>
          </a:p>
        </p:txBody>
      </p:sp>
      <p:pic>
        <p:nvPicPr>
          <p:cNvPr id="133" name="" descr=""/>
          <p:cNvPicPr/>
          <p:nvPr/>
        </p:nvPicPr>
        <p:blipFill>
          <a:blip r:embed="rId1"/>
          <a:stretch/>
        </p:blipFill>
        <p:spPr>
          <a:xfrm>
            <a:off x="4648320" y="4343400"/>
            <a:ext cx="3504960" cy="180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ad Pattern</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ximum Load</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ad with all the glassware and media filled upto 70%, of the chamber and the details are as follows.</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est-1 : 250ml Conical flasks = 12 Nos with media, 13 Nos without media, 500ml Conical flasks with media = 4nos, 1000ml Conical flasks with media =4nos, Pipette10ml=10nos,Pipette 2ml=10nos, Pipette 5ml=10nos, Pipette 1ml = 10nos,100ml</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ottles=20nos ,Filtering unit=10nos, Test tubes =25nos</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nimum Load</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ad with all the glassware and media required for a day’s analysis (average).</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50ml Conical flasks with media = 6nos, 500ml Conical flask with media – 3 nos., 1000ml Conical flask - 1 Pipette 10ml= 10nos, Pipette 2ml= 10nos, Pipette 5ml= 10nos, Pipette 1ml=10nos, Bottles=10nos, Test tubes - 25nos.</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 the temperature and lag time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FORMANCE QUALIFICATION PROTOCOL (PQ)</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0 PURPOSE :</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 provide a performance qualification protocol for Autoclave.</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0 SCOPE :</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pecified to Autoclave xxxxx.</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0 RESPONSIBILITY :</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crobiologist, Manager Q.C</a:t>
            </a:r>
            <a:endParaRPr b="0" lang="en-US" sz="16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0 PROCEDURE</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1 Heat Penetration Studies: </a:t>
            </a:r>
            <a:r>
              <a:rPr b="0" lang="en-US" sz="1600" spc="-1" strike="noStrike">
                <a:solidFill>
                  <a:srgbClr val="000000"/>
                </a:solidFill>
                <a:latin typeface="Tahoma"/>
              </a:rPr>
              <a:t>Carry out the heat penetration studies by using a multi point data logger for the following loads mentioned. Record the temperature and lag time.</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eptance criteri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 12 probes must reach temperature 121°C to 124°C and pressure must be within 15 to 18 lbs. for 15 min cycl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2 Microbial limit test :</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cubate the sterilised media flask or tubes from any one Maximum and Minimum load of heat penetration studies and observe for nutritive properties. Bacteria: 30 – 35 °C for 72 hrs, Fungi : 20 – 25°C for 120 hrs</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ceptance criteria:</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 microbial growth should be observed i.e. Negative control and Nutritive properties of media must pass</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3 Microbial challenge test :</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eep ampoules containing spores suspension of Bacillus stearothermophilus 106 population at various location of the autoclave along with probes and maintain the sterilisation temperature at 15psi and 121°C during the heat penetration studies, once on the maximum load.</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ceptance criteria:</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utoclaved ampoules containing Bacillus stearothermophilus spores suspension ampoules should not show any colour change after five days of incubation.</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371600" y="479520"/>
            <a:ext cx="6781680" cy="599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0 DOCUMENTATION :</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1</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ster Instrument used for validation of autoclav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stitutes name and address carrying out calibration.</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andard calibrating instrument name and number.</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strument certified against (Instrument of national or international standards)</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e of calibration and validity period of calibration.</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raining certificate of persons (External agency) carrying out validation.</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2 Autoclave being calibrated :</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ll temperature readings for autoclave being validated should be collected from the approved external agency like IIM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alidation report with observed any error, statement of calibration and next validation du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0 FREQUENCY :</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nce in a year until and unless no change in autoclave. In case of any change, the autoclave must be revalidated</a:t>
            </a:r>
            <a:endParaRPr b="0" lang="en-US" sz="14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0</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CLUSION : Finally conclusion should be drawn based on the results of above tests and documented</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RODUCTION</a:t>
            </a:r>
            <a:endParaRPr b="0" lang="en-US" sz="3200" spc="-1" strike="noStrike">
              <a:solidFill>
                <a:srgbClr val="333399"/>
              </a:solidFill>
              <a:latin typeface="Tahoma"/>
            </a:endParaRPr>
          </a:p>
        </p:txBody>
      </p:sp>
      <p:sp>
        <p:nvSpPr>
          <p:cNvPr id="102" name="PlaceHolder 2"/>
          <p:cNvSpPr>
            <a:spLocks noGrp="1"/>
          </p:cNvSpPr>
          <p:nvPr>
            <p:ph/>
          </p:nvPr>
        </p:nvSpPr>
        <p:spPr>
          <a:xfrm>
            <a:off x="990720" y="274320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autoclave is a device to sterilize equipment and supplies by subjecting them to high pressure steam at 121° C or more. It was invented by Charles Chamberland in 1879,although a precursor known as the steam digester was created by Denis Papin in 1679. The term autoclave is also used to describe an industrial machine in which elevated temperature and pressure are used in processing material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53316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en-US" sz="2800" spc="-1" strike="noStrike">
                <a:solidFill>
                  <a:srgbClr val="333399"/>
                </a:solidFill>
                <a:latin typeface="Tahoma"/>
              </a:rPr>
              <a:t>What can be autoclaved</a:t>
            </a:r>
            <a:br>
              <a:rPr sz="4000"/>
            </a:br>
            <a:endParaRPr b="0" lang="en-US" sz="28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Surgical Instrument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Glassware</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Plastic tubes and pipette tip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Solutions and water</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Animal food and bedding</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Waste</a:t>
            </a:r>
            <a:endParaRPr b="0" lang="en-US" sz="1800" spc="-1" strike="noStrike">
              <a:solidFill>
                <a:srgbClr val="000000"/>
              </a:solidFill>
              <a:latin typeface="Tahoma"/>
            </a:endParaRPr>
          </a:p>
        </p:txBody>
      </p:sp>
      <p:pic>
        <p:nvPicPr>
          <p:cNvPr id="105" name="Picture 8" descr="instruments"/>
          <p:cNvPicPr/>
          <p:nvPr/>
        </p:nvPicPr>
        <p:blipFill>
          <a:blip r:embed="rId1"/>
          <a:stretch/>
        </p:blipFill>
        <p:spPr>
          <a:xfrm>
            <a:off x="4724280" y="1828800"/>
            <a:ext cx="905040" cy="1104840"/>
          </a:xfrm>
          <a:prstGeom prst="rect">
            <a:avLst/>
          </a:prstGeom>
          <a:ln w="0">
            <a:noFill/>
          </a:ln>
        </p:spPr>
      </p:pic>
      <p:pic>
        <p:nvPicPr>
          <p:cNvPr id="106" name="Picture 9" descr="wrapped"/>
          <p:cNvPicPr/>
          <p:nvPr/>
        </p:nvPicPr>
        <p:blipFill>
          <a:blip r:embed="rId2"/>
          <a:stretch/>
        </p:blipFill>
        <p:spPr>
          <a:xfrm>
            <a:off x="6781680" y="2057400"/>
            <a:ext cx="1143000" cy="752400"/>
          </a:xfrm>
          <a:prstGeom prst="rect">
            <a:avLst/>
          </a:prstGeom>
          <a:ln w="0">
            <a:noFill/>
          </a:ln>
        </p:spPr>
      </p:pic>
      <p:pic>
        <p:nvPicPr>
          <p:cNvPr id="107" name="Picture 5" descr="tips"/>
          <p:cNvPicPr/>
          <p:nvPr/>
        </p:nvPicPr>
        <p:blipFill>
          <a:blip r:embed="rId3"/>
          <a:stretch/>
        </p:blipFill>
        <p:spPr>
          <a:xfrm>
            <a:off x="5867280" y="3124080"/>
            <a:ext cx="1105200" cy="847800"/>
          </a:xfrm>
          <a:prstGeom prst="rect">
            <a:avLst/>
          </a:prstGeom>
          <a:ln w="0">
            <a:noFill/>
          </a:ln>
        </p:spPr>
      </p:pic>
      <p:pic>
        <p:nvPicPr>
          <p:cNvPr id="108" name="Picture 6" descr="tubes"/>
          <p:cNvPicPr/>
          <p:nvPr/>
        </p:nvPicPr>
        <p:blipFill>
          <a:blip r:embed="rId4"/>
          <a:stretch/>
        </p:blipFill>
        <p:spPr>
          <a:xfrm>
            <a:off x="7543800" y="3733920"/>
            <a:ext cx="504720" cy="761760"/>
          </a:xfrm>
          <a:prstGeom prst="rect">
            <a:avLst/>
          </a:prstGeom>
          <a:ln w="0">
            <a:noFill/>
          </a:ln>
        </p:spPr>
      </p:pic>
      <p:pic>
        <p:nvPicPr>
          <p:cNvPr id="109" name="Picture 10" descr="orange bag"/>
          <p:cNvPicPr/>
          <p:nvPr/>
        </p:nvPicPr>
        <p:blipFill>
          <a:blip r:embed="rId5"/>
          <a:stretch/>
        </p:blipFill>
        <p:spPr>
          <a:xfrm>
            <a:off x="2438280" y="4952880"/>
            <a:ext cx="2590920" cy="1679760"/>
          </a:xfrm>
          <a:prstGeom prst="rect">
            <a:avLst/>
          </a:prstGeom>
          <a:ln w="0">
            <a:noFill/>
          </a:ln>
        </p:spPr>
      </p:pic>
      <p:pic>
        <p:nvPicPr>
          <p:cNvPr id="110" name="Picture 4" descr="teklab"/>
          <p:cNvPicPr/>
          <p:nvPr/>
        </p:nvPicPr>
        <p:blipFill>
          <a:blip r:embed="rId6"/>
          <a:stretch/>
        </p:blipFill>
        <p:spPr>
          <a:xfrm>
            <a:off x="5334120" y="4419720"/>
            <a:ext cx="1028520" cy="676080"/>
          </a:xfrm>
          <a:prstGeom prst="rect">
            <a:avLst/>
          </a:prstGeom>
          <a:ln w="0">
            <a:noFill/>
          </a:ln>
        </p:spPr>
      </p:pic>
      <p:pic>
        <p:nvPicPr>
          <p:cNvPr id="111" name="Picture 7" descr="glasset"/>
          <p:cNvPicPr/>
          <p:nvPr/>
        </p:nvPicPr>
        <p:blipFill>
          <a:blip r:embed="rId7"/>
          <a:stretch/>
        </p:blipFill>
        <p:spPr>
          <a:xfrm>
            <a:off x="6705720" y="4876920"/>
            <a:ext cx="2031840" cy="13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AINTENANCE</a:t>
            </a:r>
            <a:endParaRPr b="0" lang="en-US" sz="32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Be sure the autoclave is functioning properly before use</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Record information in User Log</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Close door properly and securely</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Choose the correct conditions for your material</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For decontamination:</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Temperatures between 121-124°C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Total processing time 60-120 minutes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Exposure time greater than 20 minute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Pressure minimum 15 PSI</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53316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General Guidelines for </a:t>
            </a:r>
            <a:br>
              <a:rPr sz="3200"/>
            </a:br>
            <a:r>
              <a:rPr b="0" lang="en-US" sz="3200" spc="-1" strike="noStrike">
                <a:solidFill>
                  <a:srgbClr val="333399"/>
                </a:solidFill>
                <a:latin typeface="Tahoma"/>
              </a:rPr>
              <a:t>Routine Maintenance of Autoclaves</a:t>
            </a:r>
            <a:endParaRPr b="0" lang="en-US" sz="32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ily</a:t>
            </a:r>
            <a:r>
              <a:rPr b="0" lang="en-US" sz="1800" spc="-1" strike="noStrike">
                <a:solidFill>
                  <a:srgbClr val="000000"/>
                </a:solidFill>
                <a:latin typeface="Tahoma"/>
              </a:rPr>
              <a:t>:Remove the outlet screen and clean with detergent and a brush under running water. </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ean the chamber using a cloth. Do not use abrasive cleansers or steel wool, as these will scratch the surface and increase corrosion.</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ean the door or lid gaskets with a cloth and check for defects. Replace defective gaskets.</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ean the shelves in the autoclave or the basket or cart that holds packs (including the wheels of the cart) with detergent and a cloth.</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ekly</a:t>
            </a:r>
            <a:r>
              <a:rPr b="0" lang="en-US" sz="1800" spc="-1" strike="noStrike">
                <a:solidFill>
                  <a:srgbClr val="000000"/>
                </a:solidFill>
                <a:latin typeface="Tahoma"/>
              </a:rPr>
              <a:t>:Check the manufacturer's instructions for maintenance of the exhaust line. If the instructions are unavailable, flush the exhaust line or chamber drain to keep it free of material that may interfere with air and steam leaving the chamber as follows: </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move the outlet screen.</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ur 1 liter of detergent and hot water solution down the drain with a funnel.</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ur 1 liter of hot water down the drain to rinse out the detergent solution.</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lace the scree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intenance Schedules</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rt 4 of the British Standard outlines the following as minimum maintenance routines</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laboratory autoclaves:</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1. Minimum daily maintenance schedule</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2. Minimum weekly maintenance schedule</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3. Minimum quarterly maintenance schedule</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4. Minimum annual maintenance schedule and inspect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cumentation of maintenance work</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following documents should be available:</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Instruction Manual</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 Maintenance Log</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Autoclave Process Record</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 Permit to Work Certifica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VALIDATION PROTOCOL</a:t>
            </a:r>
            <a:endParaRPr b="0" lang="en-US" sz="32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lidation of the Autoclave is classified into the following</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IQ  _Installation Qualification</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 OQ – Operational Qualification</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 PQ – Performance Qualification</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1T05:04:14Z</dcterms:created>
  <dc:creator>admin</dc:creator>
  <dc:description/>
  <dc:language>en-US</dc:language>
  <cp:lastModifiedBy>kreddy</cp:lastModifiedBy>
  <dcterms:modified xsi:type="dcterms:W3CDTF">2009-07-16T15:55:43Z</dcterms:modified>
  <cp:revision>28</cp:revision>
  <dc:subject/>
  <dc:title>AUTOCLAVE</dc:title>
</cp:coreProperties>
</file>