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21E01-CFF9-497F-B386-8D40ADA21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C7DA-3961-4D61-82AA-52CBEF9EA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E6973-7F03-4507-81D9-6248AB77A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C7C3B-A6AB-4AB1-954E-06E465423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73243-FA9B-4235-ADCD-DB40CF352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53A9D-3747-41CA-A7C4-7DD041ACA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6D337-C259-4831-838E-49DCF565F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58690-F4DE-49D9-ACB1-AF2354DCC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1ABCE-9B84-4B04-AEA4-080FD8CCF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CC0F-BE44-4518-B114-945F5F367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734FC-68B2-418F-ACBB-EBB440670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55DED-1CE3-4F2A-8A64-8BAEEF9A4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1A438-2B8C-49F9-BCA9-5CFD23A4C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AC635-2D8E-44B5-9015-97DFB7356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D744A-A53E-4B57-A127-049A7F56B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0A745-8099-415A-BC3F-9B99E7E2C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453E5-89CC-49CF-BBA2-399D19899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3321-4C0B-4AE3-803C-455C322A4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10281-FF2D-4452-84AF-F0C4A2B0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C9EB-3908-47FE-BC1D-4BA0A6E02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5B864-69C8-4FB9-AF0D-B2AD14B94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C1C5-BA60-4C30-9558-E637A4ACE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0F01-F4A7-4AE3-8C9C-05C3AE8A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EB11-C4B7-4690-9E77-B764ADCA8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03DF-43A0-4FD7-A086-91F297EBBCF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8265-E6A8-4E49-B888-FAE2C44F619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OCLAV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914400" y="33523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INTENANCE AND VALIDA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ION TEAM:</a:t>
            </a:r>
            <a:endParaRPr b="0" lang="en-US" sz="1800" spc="-1" strike="noStrike">
              <a:solidFill>
                <a:srgbClr val="000000"/>
              </a:solidFill>
              <a:latin typeface="Tahoma"/>
            </a:endParaRPr>
          </a:p>
        </p:txBody>
      </p:sp>
      <p:pic>
        <p:nvPicPr>
          <p:cNvPr id="126" name="" descr=""/>
          <p:cNvPicPr/>
          <p:nvPr/>
        </p:nvPicPr>
        <p:blipFill>
          <a:blip r:embed="rId1"/>
          <a:stretch/>
        </p:blipFill>
        <p:spPr>
          <a:xfrm>
            <a:off x="1447920" y="2514600"/>
            <a:ext cx="632448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allation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p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 and identification no.</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oc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tility requiremen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s and safety features of the systems/equipment which need to be document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RATIONAL QUALIFICATION PROTOCOL (OQ)</a:t>
            </a:r>
            <a:endParaRPr b="0" lang="en-US" sz="16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 PURPOSE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 demonstrate and document that the operations</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f the Autoclave take place as specified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 SCOPE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clave xxxxx will be qualified to meet OQ.</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 RESPONSIBILITY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biologist, Manager Q.C</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0 PROCEDURE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should be performed by external agency like IIM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 Verify the following as per instrument operating procedure and calibration certificate kept in place before validation.</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1 : Temperature display of Autoclav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2 : Compound pressure gauge of Autoclav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eptance criteria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calibration data found to be within the acceptable norms of calibration certificate.</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2 Calibration of Thermocouples :</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brate all the thermocouples of data logger before and after the validation using standard thermometer and also made available party’s calibration certificates.</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eptance criteria:</a:t>
            </a:r>
            <a:endParaRPr b="0" lang="en-US" sz="1400" spc="-1" strike="noStrike">
              <a:solidFill>
                <a:srgbClr val="000000"/>
              </a:solidFill>
              <a:latin typeface="Tahoma"/>
            </a:endParaRPr>
          </a:p>
          <a:p>
            <a:pPr marL="298440" indent="-29844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variation between the temperature of thermocouples and the standard thermometer found to be within the acceptance criteria.</a:t>
            </a:r>
            <a:endParaRPr b="0" lang="en-US" sz="1400" spc="-1" strike="noStrike">
              <a:solidFill>
                <a:srgbClr val="000000"/>
              </a:solidFill>
              <a:latin typeface="Tahoma"/>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3 Heat Distribution Studi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rry out heat distribution studies by using a multi-point data logger and maintain holding time for 15 minutes at 15 lbs. by fixing all the 12 probes as per diagram-1. Record the temperature and lag time of each probe as per Annexure –1 &amp; 2.</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criteria</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probes must reach temperature 121-124°C and pressure must be within 15 to 18 lbs for 15min cycl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agram-1 Probe to 12 inside the chamber</a:t>
            </a:r>
            <a:endParaRPr b="0" lang="en-US" sz="1600" spc="-1" strike="noStrike">
              <a:solidFill>
                <a:srgbClr val="000000"/>
              </a:solidFill>
              <a:latin typeface="Tahoma"/>
            </a:endParaRPr>
          </a:p>
        </p:txBody>
      </p:sp>
      <p:pic>
        <p:nvPicPr>
          <p:cNvPr id="133" name="" descr=""/>
          <p:cNvPicPr/>
          <p:nvPr/>
        </p:nvPicPr>
        <p:blipFill>
          <a:blip r:embed="rId1"/>
          <a:stretch/>
        </p:blipFill>
        <p:spPr>
          <a:xfrm>
            <a:off x="4648320" y="4343400"/>
            <a:ext cx="350496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ad Pattern</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ximum Load</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ad with all the glassware and media filled upto 70%, of the chamber and the details are as follow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1 : 250ml Conical flasks = 12 Nos with media, 13 Nos without media, 500ml Conical flasks with media = 4nos, 1000ml Conical flasks with media =4nos, Pipette10ml=10nos,Pipette 2ml=10nos, Pipette 5ml=10nos, Pipette 1ml = 10nos,100ml</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ottles=20nos ,Filtering unit=10nos, Test tubes =25no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um Load</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ad with all the glassware and media required for a day’s analysis (averag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50ml Conical flasks with media = 6nos, 500ml Conical flask with media – 3 nos., 1000ml Conical flask - 1 Pipette 10ml= 10nos, Pipette 2ml= 10nos, Pipette 5ml= 10nos, Pipette 1ml=10nos, Bottles=10nos, Test tubes - 25no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 the temperature and lag tim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FORMANCE QUALIFICATION PROTOCOL (PQ)</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PURPOSE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provide a performance qualification protocol for Autoclav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 SCOPE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cified to Autoclave xxxxx.</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RESPONSIBILITY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crobiologist, Manager Q.C</a:t>
            </a:r>
            <a:endParaRPr b="0" lang="en-US" sz="16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 PROCEDUR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 Heat Penetration Studies: </a:t>
            </a:r>
            <a:r>
              <a:rPr b="0" lang="en-US" sz="1600" spc="-1" strike="noStrike">
                <a:solidFill>
                  <a:srgbClr val="000000"/>
                </a:solidFill>
                <a:latin typeface="Tahoma"/>
              </a:rPr>
              <a:t>Carry out the heat penetration studies by using a multi point data logger for the following loads mentioned. Record the temperature and lag tim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ptance criteri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12 probes must reach temperature 121°C to 124°C and pressure must be within 15 to 18 lbs. for 15 min cyc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 Microbial limit test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cubate the sterilised media flask or tubes from any one Maximum and Minimum load of heat penetration studies and observe for nutritive properties. Bacteria: 30 – 35 °C for 72 hrs, Fungi : 20 – 25°C for 120 hr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criteria:</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icrobial growth should be observed i.e. Negative control and Nutritive properties of media must pas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3 Microbial challenge test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eep ampoules containing spores suspension of Bacillus stearothermophilus 106 population at various location of the autoclave along with probes and maintain the sterilisation temperature at 15psi and 121°C during the heat penetration studies, once on the maximum load.</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criteria:</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oclaved ampoules containing Bacillus stearothermophilus spores suspension ampoules should not show any colour change after five days of incuba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479520"/>
            <a:ext cx="6781680" cy="599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0 DOCUMENTATION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1</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ster Instrument used for validation of autocla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titutes name and address carrying out calibration.</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ndard calibrating instrument name and number.</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trument certified against (Instrument of national or international standards)</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e of calibration and validity period of calibration.</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ining certificate of persons (External agency) carrying out validation.</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2 Autoclave being calibrated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 temperature readings for autoclave being validated should be collected from the approved external agency like IIM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lidation report with observed any error, statement of calibration and next validation du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 FREQUENCY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ce in a year until and unless no change in autoclave. In case of any change, the autoclave must be revalidated</a:t>
            </a: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CLUSION : Finally conclusion should be drawn based on the results of above tests and document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RODUCTION</a:t>
            </a:r>
            <a:endParaRPr b="0" lang="en-US" sz="3200" spc="-1" strike="noStrike">
              <a:solidFill>
                <a:srgbClr val="333399"/>
              </a:solidFill>
              <a:latin typeface="Tahoma"/>
            </a:endParaRPr>
          </a:p>
        </p:txBody>
      </p:sp>
      <p:sp>
        <p:nvSpPr>
          <p:cNvPr id="102" name="PlaceHolder 2"/>
          <p:cNvSpPr>
            <a:spLocks noGrp="1"/>
          </p:cNvSpPr>
          <p:nvPr>
            <p:ph/>
          </p:nvPr>
        </p:nvSpPr>
        <p:spPr>
          <a:xfrm>
            <a:off x="990720" y="27432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utoclave is a device to sterilize equipment and supplies by subjecting them to high pressure steam at 121° C or more. It was invented by Charles Chamberland in 1879,although a precursor known as the steam digester was created by Denis Papin in 1679. The term autoclave is also used to describe an industrial machine in which elevated temperature and pressure are used in processing material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333399"/>
                </a:solidFill>
                <a:latin typeface="Tahoma"/>
              </a:rPr>
              <a:t>What can be autoclaved</a:t>
            </a:r>
            <a:br>
              <a:rPr sz="4000"/>
            </a:br>
            <a:endParaRPr b="0" lang="en-US" sz="28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urgical Instrument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Glasswar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Plastic tubes and pipette tip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Solutions and wat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Animal food and bedding</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Waste</a:t>
            </a:r>
            <a:endParaRPr b="0" lang="en-US" sz="1800" spc="-1" strike="noStrike">
              <a:solidFill>
                <a:srgbClr val="000000"/>
              </a:solidFill>
              <a:latin typeface="Tahoma"/>
            </a:endParaRPr>
          </a:p>
        </p:txBody>
      </p:sp>
      <p:pic>
        <p:nvPicPr>
          <p:cNvPr id="105" name="Picture 8" descr="instruments"/>
          <p:cNvPicPr/>
          <p:nvPr/>
        </p:nvPicPr>
        <p:blipFill>
          <a:blip r:embed="rId1"/>
          <a:stretch/>
        </p:blipFill>
        <p:spPr>
          <a:xfrm>
            <a:off x="4724280" y="1828800"/>
            <a:ext cx="905040" cy="1104840"/>
          </a:xfrm>
          <a:prstGeom prst="rect">
            <a:avLst/>
          </a:prstGeom>
          <a:ln w="0">
            <a:noFill/>
          </a:ln>
        </p:spPr>
      </p:pic>
      <p:pic>
        <p:nvPicPr>
          <p:cNvPr id="106" name="Picture 9" descr="wrapped"/>
          <p:cNvPicPr/>
          <p:nvPr/>
        </p:nvPicPr>
        <p:blipFill>
          <a:blip r:embed="rId2"/>
          <a:stretch/>
        </p:blipFill>
        <p:spPr>
          <a:xfrm>
            <a:off x="6781680" y="2057400"/>
            <a:ext cx="1143000" cy="752400"/>
          </a:xfrm>
          <a:prstGeom prst="rect">
            <a:avLst/>
          </a:prstGeom>
          <a:ln w="0">
            <a:noFill/>
          </a:ln>
        </p:spPr>
      </p:pic>
      <p:pic>
        <p:nvPicPr>
          <p:cNvPr id="107" name="Picture 5" descr="tips"/>
          <p:cNvPicPr/>
          <p:nvPr/>
        </p:nvPicPr>
        <p:blipFill>
          <a:blip r:embed="rId3"/>
          <a:stretch/>
        </p:blipFill>
        <p:spPr>
          <a:xfrm>
            <a:off x="5867280" y="3124080"/>
            <a:ext cx="1105200" cy="847800"/>
          </a:xfrm>
          <a:prstGeom prst="rect">
            <a:avLst/>
          </a:prstGeom>
          <a:ln w="0">
            <a:noFill/>
          </a:ln>
        </p:spPr>
      </p:pic>
      <p:pic>
        <p:nvPicPr>
          <p:cNvPr id="108" name="Picture 6" descr="tubes"/>
          <p:cNvPicPr/>
          <p:nvPr/>
        </p:nvPicPr>
        <p:blipFill>
          <a:blip r:embed="rId4"/>
          <a:stretch/>
        </p:blipFill>
        <p:spPr>
          <a:xfrm>
            <a:off x="7543800" y="3733920"/>
            <a:ext cx="504720" cy="761760"/>
          </a:xfrm>
          <a:prstGeom prst="rect">
            <a:avLst/>
          </a:prstGeom>
          <a:ln w="0">
            <a:noFill/>
          </a:ln>
        </p:spPr>
      </p:pic>
      <p:pic>
        <p:nvPicPr>
          <p:cNvPr id="109" name="Picture 10" descr="orange bag"/>
          <p:cNvPicPr/>
          <p:nvPr/>
        </p:nvPicPr>
        <p:blipFill>
          <a:blip r:embed="rId5"/>
          <a:stretch/>
        </p:blipFill>
        <p:spPr>
          <a:xfrm>
            <a:off x="2438280" y="4952880"/>
            <a:ext cx="2590920" cy="1679760"/>
          </a:xfrm>
          <a:prstGeom prst="rect">
            <a:avLst/>
          </a:prstGeom>
          <a:ln w="0">
            <a:noFill/>
          </a:ln>
        </p:spPr>
      </p:pic>
      <p:pic>
        <p:nvPicPr>
          <p:cNvPr id="110" name="Picture 4" descr="teklab"/>
          <p:cNvPicPr/>
          <p:nvPr/>
        </p:nvPicPr>
        <p:blipFill>
          <a:blip r:embed="rId6"/>
          <a:stretch/>
        </p:blipFill>
        <p:spPr>
          <a:xfrm>
            <a:off x="5334120" y="4419720"/>
            <a:ext cx="1028520" cy="676080"/>
          </a:xfrm>
          <a:prstGeom prst="rect">
            <a:avLst/>
          </a:prstGeom>
          <a:ln w="0">
            <a:noFill/>
          </a:ln>
        </p:spPr>
      </p:pic>
      <p:pic>
        <p:nvPicPr>
          <p:cNvPr id="111" name="Picture 7" descr="glasset"/>
          <p:cNvPicPr/>
          <p:nvPr/>
        </p:nvPicPr>
        <p:blipFill>
          <a:blip r:embed="rId7"/>
          <a:stretch/>
        </p:blipFill>
        <p:spPr>
          <a:xfrm>
            <a:off x="6705720" y="4876920"/>
            <a:ext cx="2031840" cy="13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INTENANCE</a:t>
            </a: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e sure the autoclave is functioning properly before us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Record information in User Lo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Close door properly and securely</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Choose the correct conditions for your materi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For decontaminatio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Temperatures between 121-124°C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Total processing time 60-120 minute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Exposure time greater than 20 minut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Pressure minimum 15 PS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5331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eneral Guidelines for </a:t>
            </a:r>
            <a:br>
              <a:rPr sz="3200"/>
            </a:br>
            <a:r>
              <a:rPr b="0" lang="en-US" sz="3200" spc="-1" strike="noStrike">
                <a:solidFill>
                  <a:srgbClr val="333399"/>
                </a:solidFill>
                <a:latin typeface="Tahoma"/>
              </a:rPr>
              <a:t>Routine Maintenance of Autoclaves</a:t>
            </a:r>
            <a:endParaRPr b="0" lang="en-US" sz="32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a:t>
            </a:r>
            <a:r>
              <a:rPr b="0" lang="en-US" sz="1800" spc="-1" strike="noStrike">
                <a:solidFill>
                  <a:srgbClr val="000000"/>
                </a:solidFill>
                <a:latin typeface="Tahoma"/>
              </a:rPr>
              <a:t>:Remove the outlet screen and clean with detergent and a brush under running water.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 the chamber using a cloth. Do not use abrasive cleansers or steel wool, as these will scratch the surface and increase corrosio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 the door or lid gaskets with a cloth and check for defects. Replace defective gaskets.</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n the shelves in the autoclave or the basket or cart that holds packs (including the wheels of the cart) with detergent and a cloth.</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ekly</a:t>
            </a:r>
            <a:r>
              <a:rPr b="0" lang="en-US" sz="1800" spc="-1" strike="noStrike">
                <a:solidFill>
                  <a:srgbClr val="000000"/>
                </a:solidFill>
                <a:latin typeface="Tahoma"/>
              </a:rPr>
              <a:t>:Check the manufacturer's instructions for maintenance of the exhaust line. If the instructions are unavailable, flush the exhaust line or chamber drain to keep it free of material that may interfere with air and steam leaving the chamber as follows: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the outlet scree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ur 1 liter of detergent and hot water solution down the drain with a funnel.</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ur 1 liter of hot water down the drain to rinse out the detergent solutio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the scr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tenance Schedule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 4 of the British Standard outlines the following as minimum maintenance routin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laboratory autoclave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1. Minimum daily maintenance schedul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2. Minimum weekly maintenance schedul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3. Minimum quarterly maintenance schedul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4. Minimum annual maintenance schedule and inspec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cumentation of maintenance work</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ollowing documents should be available:</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nstruction Manual</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Maintenance Log</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Autoclave Process Record</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Permit to Work Certifica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ALIDATION PROTOCOL</a:t>
            </a:r>
            <a:endParaRPr b="0" lang="en-US" sz="32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ion of the Autoclave is classified into the following</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IQ  _Installation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OQ – Operational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PQ – Performance Qualificatio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1T05:04:14Z</dcterms:created>
  <dc:creator>admin</dc:creator>
  <dc:description/>
  <dc:language>en-US</dc:language>
  <cp:lastModifiedBy>kreddy</cp:lastModifiedBy>
  <dcterms:modified xsi:type="dcterms:W3CDTF">2009-07-16T15:55:43Z</dcterms:modified>
  <cp:revision>28</cp:revision>
  <dc:subject/>
  <dc:title>AUTOCLAVE</dc:title>
</cp:coreProperties>
</file>