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564-AA91-41F3-9C8D-240F12A2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89F-0996-41D1-87E3-D34CDD39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6CA-D7B4-496B-B9D0-CD0EABE4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5F1-FF32-41C6-AC0C-E8DB6C8E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BB0-F310-4ECD-B470-8248A14A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029-F0FB-41A2-969B-386F8DA0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855-E33B-4BC4-999D-8C6C0EC2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5D5-0B49-44AC-AA4F-8E8CA560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F16-3FFE-4345-BA00-BF22A684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5D7-B9AA-42FB-B258-BE1A579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7A5-F638-4F1C-8F05-3AFF25C1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24E-4DAA-4422-99A9-D01CA8BC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B7091-A948-4D05-A01A-8CFF23D7AA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9CDCC-D4B4-48E7-8EF1-43766EDB49C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1:52:40Z</dcterms:created>
  <dc:creator>최봉수</dc:creator>
  <dc:description/>
  <dc:language>en-US</dc:language>
  <cp:lastModifiedBy>맛있다 군만두</cp:lastModifiedBy>
  <dcterms:modified xsi:type="dcterms:W3CDTF">2023-07-13T10:36:36Z</dcterms:modified>
  <cp:revision>3</cp:revision>
  <dc:subject/>
  <dc:title>슬라이드 1</dc:title>
</cp:coreProperties>
</file>