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E9F-79F3-46A9-A49D-072D5778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840-7CC9-4649-9771-E7A85CD5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A0B-9293-45CE-8DE3-7D1B70FE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F49-D3EC-4A48-A0F6-3F75E9F2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4AC-2977-4971-B3E2-AD2C17E3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6EE-B022-4F32-8A77-1EE715A4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C04-4FD6-49A0-A824-399B2881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D43-9B8B-4D9C-A4C4-F3BE858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A55-9544-4EEF-B68C-27387A92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972-3DE4-4A32-9E86-29A3EC5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236-0435-466B-A5A6-FCC7CBA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BEE-EE1D-434B-AF99-A8AA5623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AC950-DA60-44F1-8F16-98E398233D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6F1FE-00CC-4D44-A42B-C9298215EFB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1:52:40Z</dcterms:created>
  <dc:creator>최봉수</dc:creator>
  <dc:description/>
  <dc:language>en-US</dc:language>
  <cp:lastModifiedBy>맛있다 군만두</cp:lastModifiedBy>
  <dcterms:modified xsi:type="dcterms:W3CDTF">2023-07-13T10:36:36Z</dcterms:modified>
  <cp:revision>3</cp:revision>
  <dc:subject/>
  <dc:title>슬라이드 1</dc:title>
</cp:coreProperties>
</file>